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A179-6C76-4339-A379-A444D583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145-FA0D-423B-99D1-4FD156CD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751B-118C-4C5A-8671-528AFC80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6C40-90CD-4EDC-80D1-08770348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E01F-0BD9-4DBA-97E0-7D2D4DB6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022B-696B-4D32-BE5E-0522522D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D554-2CF6-4A18-AF2B-1550728C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37B8-980E-45B8-A45B-6BAA8DD2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46F3-D206-4393-8166-77620A82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5D9B-24F2-46AD-9D22-EB1C0E5D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765A-F0B4-47CF-8668-86DFB3B0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630D-F39C-4954-87DE-45BF6BDF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5B4B-5E5B-4C51-BC0B-FC7CB92A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33D0-9E84-4A87-9C7F-275B00F8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C766-22E2-4279-8547-E2DB7729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2661-2B60-46A4-BA3E-77E58C4E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9C33-FB49-4E61-8F84-462214AC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E8BB-FBF9-47D4-B060-1CABF997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E5A-6114-48C9-84EC-2A231BC7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5C33-4013-496A-84EB-A2471A2F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571E-C7A2-4FBF-B34D-4F214155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CC4-4840-4E39-94C6-F0E5681B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8992-6F47-4489-8AE0-5E859257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B05C-3A3A-4773-924E-F1497B1D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8BB7-E5D0-49AE-9ED4-35F362878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D7EC-E6A9-4CE1-8131-9F314BABC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upload.wikimedia.org/wikipedia/commons/c/cb/Castor_canadensis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upload.wikimedia.org/wikipedia/commons/5/54/Beaver-Szmurlo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upload.wikimedia.org/wikipedia/commons/5/54/Beaver-Szmurlo.jpg" TargetMode="External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Chapter Six: The Duel for North America (1608-176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Point Slides f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American Pageant, 1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e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5e0e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e0e3"/>
                </a:solidFill>
                <a:latin typeface="Tahoma"/>
              </a:rPr>
              <a:t>Constructed by Mr. Frec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rance wants colonies too…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08 – Quebec founded on St. Lawrence River (Samuel de Champl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ron vs. Iroquo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ony called “New France” but few settlers (60,000 by 175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tholic Colony only (Jesuit pries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ert de La Salle &amp; the Mississippi 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ishes Louisiana colony to protect tr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conomic Colony, not settlemen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r traders mostly (coureurs de bo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ed with native tribes against their enem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isease and weapons ahead of English sett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0" name="800px-Castor_canadensis" descr="Image:Castor canadensis.jpg">
            <a:hlinkClick r:id="rId4"/>
          </p:cNvPr>
          <p:cNvPicPr/>
          <p:nvPr/>
        </p:nvPicPr>
        <p:blipFill>
          <a:blip r:embed="rId5"/>
          <a:srcRect l="0" t="0" r="2943" b="0"/>
          <a:stretch/>
        </p:blipFill>
        <p:spPr>
          <a:xfrm>
            <a:off x="3962520" y="2209680"/>
            <a:ext cx="5029200" cy="3886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809880" y="1905120"/>
            <a:ext cx="2286000" cy="990360"/>
          </a:xfrm>
          <a:prstGeom prst="wedgeRoundRectCallout">
            <a:avLst>
              <a:gd name="adj1" fmla="val -23611"/>
              <a:gd name="adj2" fmla="val 10576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ir makes nice hat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ash of Empir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320" y="1904760"/>
            <a:ext cx="9067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ng William’s War (1689-169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 of the League of Augsbu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en Anne’s War (1702-171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 of Spanish Succession (Treaty of Utrech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gland gets Nova Scotia and Hudson Bay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ng George’s War (1744-174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 of Austrian Succession / War of Jenkin’s 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onial victories given back at peace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91520" cy="6858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pic>
        <p:nvPicPr>
          <p:cNvPr id="335" name="800px-Beaver-Szmurlo" descr="Image:Beaver-Szmurlo.jpg">
            <a:hlinkClick r:id="rId2"/>
          </p:cNvPr>
          <p:cNvPicPr/>
          <p:nvPr/>
        </p:nvPicPr>
        <p:blipFill>
          <a:blip r:embed="rId3"/>
          <a:srcRect l="21668" t="0" r="0" b="0"/>
          <a:stretch/>
        </p:blipFill>
        <p:spPr>
          <a:xfrm>
            <a:off x="7162920" y="152280"/>
            <a:ext cx="1981080" cy="1681200"/>
          </a:xfrm>
          <a:prstGeom prst="rect">
            <a:avLst/>
          </a:prstGeom>
          <a:ln w="0">
            <a:noFill/>
          </a:ln>
        </p:spPr>
      </p:pic>
      <p:pic>
        <p:nvPicPr>
          <p:cNvPr id="336" name="800px-Beaver-Szmurlo" descr="Image:Beaver-Szmurlo.jpg">
            <a:hlinkClick r:id="rId4"/>
          </p:cNvPr>
          <p:cNvPicPr/>
          <p:nvPr/>
        </p:nvPicPr>
        <p:blipFill>
          <a:blip r:embed="rId5"/>
          <a:srcRect l="21668" t="0" r="0" b="0"/>
          <a:stretch/>
        </p:blipFill>
        <p:spPr>
          <a:xfrm>
            <a:off x="7162920" y="3500280"/>
            <a:ext cx="1981080" cy="1681200"/>
          </a:xfrm>
          <a:prstGeom prst="rect">
            <a:avLst/>
          </a:prstGeom>
          <a:ln w="0">
            <a:noFill/>
          </a:ln>
        </p:spPr>
      </p:pic>
      <p:pic>
        <p:nvPicPr>
          <p:cNvPr id="337" name="france-flag" descr=""/>
          <p:cNvPicPr/>
          <p:nvPr/>
        </p:nvPicPr>
        <p:blipFill>
          <a:blip r:embed="rId6"/>
          <a:stretch/>
        </p:blipFill>
        <p:spPr>
          <a:xfrm>
            <a:off x="7391520" y="1981080"/>
            <a:ext cx="1752480" cy="116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38" name="france-flag" descr=""/>
          <p:cNvPicPr/>
          <p:nvPr/>
        </p:nvPicPr>
        <p:blipFill>
          <a:blip r:embed="rId7"/>
          <a:stretch/>
        </p:blipFill>
        <p:spPr>
          <a:xfrm>
            <a:off x="7391520" y="5460840"/>
            <a:ext cx="1752480" cy="116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371600" y="-304920"/>
            <a:ext cx="6934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The French and Indian War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(1754-176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19320" y="160020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ven Years War in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57400" y="2362320"/>
          <a:ext cx="272880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7400" y="2362320"/>
                    <a:ext cx="2728800" cy="3867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5410080" y="2362320"/>
          <a:ext cx="2816280" cy="38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2362320"/>
                    <a:ext cx="2816280" cy="38383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434340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3:12:06Z</dcterms:created>
  <dc:creator>Authorized User</dc:creator>
  <dc:description/>
  <dc:language>en-US</dc:language>
  <cp:lastModifiedBy>Brent J. Freccia</cp:lastModifiedBy>
  <dcterms:modified xsi:type="dcterms:W3CDTF">2007-09-30T16:29:53Z</dcterms:modified>
  <cp:revision>2</cp:revision>
  <dc:subject/>
  <dc:title>PowerPoint Presentation</dc:title>
</cp:coreProperties>
</file>